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71D-F9C1-430A-8AAC-991A064D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5C7-F163-44C6-A696-FCDAFF0C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C8E-0F70-4309-84A2-FD0DC0A6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391-9DFC-492F-84C6-2F021BE7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53F4-FC3A-48AF-BDB2-BC865063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DCB-70D4-4015-8F8B-27132E0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CC8-1686-4AB8-876E-2B57E4EE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5203-AF03-40EC-A8E7-34F1BE52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E536-9CD3-4025-B384-3D1CC0F5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28FC-1A7B-4027-B721-7846EC22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D866-D631-428B-B0B3-4F765EB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905-E360-40D2-B94F-43B60AA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7AED-504F-4798-9EFC-15CC1DE0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E9C2-213B-416B-B891-2CB12339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9503-5E35-4C3F-BFC3-2409E6C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86E5-5106-4368-9DB6-3FF4D9D3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9CB0-AA1C-4471-9B70-2D92BC61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FC47D-6A62-4E82-97E6-975DC380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F5494-CAC2-4327-AC4D-925F0728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61F02-03D5-4EEB-A81D-9B7C075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6C61A-F5CB-45CD-AA03-07804828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53038-1688-4073-BD17-62720E15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21E-16AF-43EB-AE52-6A5A34C3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77A0E-D568-45C1-8387-F1E1826F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29DA3-C937-4A61-9878-9CD5ACEC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10CBD-4226-4191-836A-85289863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5E820-8490-4CF8-A816-B59703A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BA644-78F5-4A8B-86B3-86EC187D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A2064-B4C3-41B4-AC5C-C929A69D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4D04B-7DFC-4320-8FE1-0DD23713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755C3-23E1-487C-9E1A-ED8CF54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8015C-E990-4E67-A0E1-A909AC79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4221-43A2-4E7D-A85B-A2019F0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D44-80CC-4FD2-AF98-5885C5F3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58EA-1A71-4955-A5F2-C03A7C2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FA1B-603D-4391-9878-4ACE342B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2930-66E5-4258-988D-E6BB32F6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A412-0BC5-4680-B601-457F22E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D872-327A-4AD5-B7DF-CD1EA4DF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4F96-38CF-431C-83B7-A827FCB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2E09-83FA-43C3-BEFE-FCA2399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4535-5ADA-4B6A-99AB-5A81B508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CD88-1478-4F53-ACCF-121DB424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8FA-6CCE-405A-93EC-6A7F75F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1AA-7987-435A-8B4A-37400D77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C00-7C1D-4CF0-81DB-D18E183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62A-52AE-4566-BE64-79A205B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C81-9F21-4930-8595-0D0A943D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1BC-28AB-4313-A7F5-45EE3916E2D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111F-60DF-4C8B-B690-6D380C55FF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7E4-AABE-4FF8-98A5-670EAEEE0A8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184-2CF2-4E06-B409-7778954FE8C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642960" y="42876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1616"/>
                </a:solidFill>
                <a:latin typeface="Segoe Print"/>
              </a:rPr>
              <a:t>Виды односоставных предлож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1357200" y="5786280"/>
            <a:ext cx="666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Русский язык, 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2714760" y="2214720"/>
            <a:ext cx="34290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1000080" y="14292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Основополагающий вопрос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1616"/>
                </a:solidFill>
                <a:latin typeface="Calibri"/>
              </a:rPr>
              <a:t>Всегда ли краткость сестра таланта</a:t>
            </a: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3000240" y="3286080"/>
            <a:ext cx="3357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714240" y="357120"/>
            <a:ext cx="77868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му критерию односоставные предложения делятся на ви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вы особенности односоставных предложени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428760" y="0"/>
            <a:ext cx="82864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22b"/>
                </a:solidFill>
                <a:latin typeface="Segoe Print"/>
              </a:rPr>
              <a:t>Вопросы учебной темы (частные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то такое односоставное предложени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колько видов односоставных предложений выделяют в русском язык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овы виды односоставных предложени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 каких стилях речи употребляются односоставные предлож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785880" y="285840"/>
            <a:ext cx="757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Продолжите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428760" y="221472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6 академических часов (6 уроков по 45 мину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big_2394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1746360" y="714240"/>
            <a:ext cx="63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22b"/>
                </a:solidFill>
                <a:latin typeface="Segoe Print"/>
              </a:rPr>
              <a:t>Результаты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1313280" y="2071800"/>
            <a:ext cx="655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езентац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чинение стихотвор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чин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142920" y="285840"/>
            <a:ext cx="86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22b"/>
                </a:solidFill>
                <a:latin typeface="Segoe Print"/>
              </a:rPr>
              <a:t>Информ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71680" y="1357200"/>
            <a:ext cx="807228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унеев Р. Н., Бунеева Е.В., Комиссарова Л. Ю., Текучева И. В. Русский язык. Учебник для 8-го класса основной школы. М.: Баллас, 2003. – 30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усский язык: Учеб. Для 8 кл. общеобразоват. Учреждений / С. Г. Бархударов, С. Е. Крючков, Л. Ю. Максимов, Л. А. Чешко. – 20-е изд. – М.: Просвещение, 1998. – 191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аблица-памя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ения, особенности односоставных предложений, примеры,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F:\big_2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1637280" y="6000840"/>
            <a:ext cx="69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Print"/>
              </a:rPr>
              <a:t>Автор проекта Ахметова Дар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D:\фото\на печать Даше\Копия DSC02837.JPG"/>
          <p:cNvPicPr/>
          <p:nvPr/>
        </p:nvPicPr>
        <p:blipFill>
          <a:blip r:embed="rId2"/>
          <a:stretch/>
        </p:blipFill>
        <p:spPr>
          <a:xfrm>
            <a:off x="2857680" y="214200"/>
            <a:ext cx="328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0:39:13Z</dcterms:created>
  <dc:creator>Владелец</dc:creator>
  <dc:description/>
  <dc:language>en-US</dc:language>
  <cp:lastModifiedBy>Владелец</cp:lastModifiedBy>
  <dcterms:modified xsi:type="dcterms:W3CDTF">2011-04-12T17:02:30Z</dcterms:modified>
  <cp:revision>18</cp:revision>
  <dc:subject/>
  <dc:title>Слайд 1</dc:title>
</cp:coreProperties>
</file>